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1FB2-9498-4F1F-A9FE-BA1495B58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9E15-9243-43D1-A16A-039D54F6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F8DE-0665-44B6-BA5A-AD0761214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5233-104F-4876-BFF2-DB4B50428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5D7A-52B5-47DE-84A8-0E03A6EC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DE9E-89A1-446F-B50C-37904B83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98C3-2923-4AA7-895D-6B636DFB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1468-4CBD-4B1A-80D4-C673A7A9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10CD-2FA4-4AD5-860D-7258B09C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905D-3A61-4B7D-BF33-E143EC5E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0CCE-9C97-420C-9423-BB9F2E48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399D-2E51-4E7B-B71F-5A910892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E4FD-64C3-407D-9363-E6C87672A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533520"/>
            <a:ext cx="556236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359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CTIVE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LISTENING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p:transition spd="med" advTm="8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3520" y="1371600"/>
            <a:ext cx="3733560" cy="12193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690560"/>
            <a:ext cx="3429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ody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CTIVE LISTE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1371600"/>
            <a:ext cx="3733560" cy="12193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1523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pen-Ended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971800"/>
            <a:ext cx="3733560" cy="12193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9960" y="329076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peat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76920" y="2971800"/>
            <a:ext cx="3733560" cy="12193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30924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knowledge Feel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572000"/>
            <a:ext cx="3733560" cy="12193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9960" y="489096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n’t Ju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4572000"/>
            <a:ext cx="3733560" cy="12193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4890960"/>
            <a:ext cx="3429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e Qui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1447920"/>
            <a:ext cx="2819520" cy="12189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17668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STE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rying It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1447920"/>
            <a:ext cx="4953240" cy="12189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17845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ve List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981080"/>
            <a:ext cx="45720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3048120"/>
            <a:ext cx="2819520" cy="12189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33670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3048120"/>
            <a:ext cx="4953240" cy="12189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326088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biggest challenge of being an educ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3581280"/>
            <a:ext cx="45720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4648320"/>
            <a:ext cx="2819520" cy="12189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49672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4648320"/>
            <a:ext cx="4953240" cy="12189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2520" y="480060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ke note of active listening skills being used.  Feedb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5181480"/>
            <a:ext cx="45720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3520" y="1371600"/>
            <a:ext cx="3733560" cy="12193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690560"/>
            <a:ext cx="3429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ody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CTIVE LISTE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76920" y="1371600"/>
            <a:ext cx="3733560" cy="12193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29200" y="1523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pen-Ended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2971800"/>
            <a:ext cx="3733560" cy="12193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9960" y="329076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peat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2971800"/>
            <a:ext cx="3733560" cy="12193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30924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knowledge Feel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4572000"/>
            <a:ext cx="3733560" cy="12193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9960" y="489096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n’t Ju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4572000"/>
            <a:ext cx="3733560" cy="12193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4890960"/>
            <a:ext cx="3429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e Qui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1447920"/>
            <a:ext cx="2819520" cy="12189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7668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rying It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9880" y="1447920"/>
            <a:ext cx="4953240" cy="12189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46680" y="182880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ve List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6720" y="1981080"/>
            <a:ext cx="45720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3048120"/>
            <a:ext cx="2819520" cy="12189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33670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9880" y="3048120"/>
            <a:ext cx="4953240" cy="12189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81520" y="320040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made them want to become an educ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3581280"/>
            <a:ext cx="45720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4648320"/>
            <a:ext cx="2819520" cy="12189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49672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9880" y="4648320"/>
            <a:ext cx="4953240" cy="12189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62520" y="480060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ke note of active listening skills being used.  Feedb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5181480"/>
            <a:ext cx="45720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33520" y="1371600"/>
            <a:ext cx="3733560" cy="12193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1690560"/>
            <a:ext cx="3429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ody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CTIVE LISTE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76920" y="1371600"/>
            <a:ext cx="3733560" cy="12193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1523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pen-Ended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2971800"/>
            <a:ext cx="3733560" cy="12193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9960" y="329076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peat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76920" y="2971800"/>
            <a:ext cx="3733560" cy="12193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29200" y="30924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knowledge Feel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4572000"/>
            <a:ext cx="3733560" cy="12193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9960" y="489096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n’t Ju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76920" y="4572000"/>
            <a:ext cx="3733560" cy="12193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4890960"/>
            <a:ext cx="3429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e Qui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676520" y="533520"/>
            <a:ext cx="556236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359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CTIVE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LISTENING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p:transition spd="med" advTm="8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1447920"/>
            <a:ext cx="3886200" cy="21333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905120"/>
            <a:ext cx="358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ire to be “other-directe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1447920"/>
            <a:ext cx="3886200" cy="21333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33800" y="1905120"/>
            <a:ext cx="358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 desire to protect your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038480"/>
            <a:ext cx="3886200" cy="2133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4313160"/>
            <a:ext cx="358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ire to imagine the experience of the 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00600" y="4038480"/>
            <a:ext cx="3886200" cy="2133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952880" y="4313160"/>
            <a:ext cx="358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ire to understand,    not cri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Qualities of Active Liste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1447920"/>
            <a:ext cx="3886200" cy="12189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75248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DY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00600" y="1447920"/>
            <a:ext cx="3886200" cy="47242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kills for Active Liste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1676520"/>
            <a:ext cx="3581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ting 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ye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dding 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1143000"/>
            <a:ext cx="3886200" cy="12193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219320"/>
            <a:ext cx="358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EN-ENDED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1143000"/>
            <a:ext cx="3886200" cy="49528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52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kills for Active Liste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952880" y="1371600"/>
            <a:ext cx="358164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happened after tha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was th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did they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did that wor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1447920"/>
            <a:ext cx="3886200" cy="12189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75248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EAT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1447920"/>
            <a:ext cx="3886200" cy="47242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kills for Active Liste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1676520"/>
            <a:ext cx="35816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what I hear you saying is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1447920"/>
            <a:ext cx="3886200" cy="12189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600200"/>
            <a:ext cx="358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KNOWLEDGING FEEL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447920"/>
            <a:ext cx="3886200" cy="47242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kills for Active Liste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1676520"/>
            <a:ext cx="35816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’re feeling 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 makes you (feeling) that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1447920"/>
            <a:ext cx="3886200" cy="12189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76688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N’T JU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00600" y="1447920"/>
            <a:ext cx="3886200" cy="47242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kills for Active Liste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52880" y="1676520"/>
            <a:ext cx="3581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te your tongu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1447920"/>
            <a:ext cx="3886200" cy="12189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176688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ING QUI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00600" y="1447920"/>
            <a:ext cx="3886200" cy="47242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kills for Active Liste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1676520"/>
            <a:ext cx="3581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nt to yourse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1447920"/>
            <a:ext cx="2819520" cy="12189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7668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STE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rying It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1447920"/>
            <a:ext cx="4953240" cy="12189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182880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ve list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1981080"/>
            <a:ext cx="45720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3048120"/>
            <a:ext cx="2819520" cy="12189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33670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3048120"/>
            <a:ext cx="4953240" cy="12189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62520" y="320040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success that they’ve experie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6720" y="3581280"/>
            <a:ext cx="45720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4648320"/>
            <a:ext cx="2819520" cy="12189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49672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4648320"/>
            <a:ext cx="4953240" cy="12189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62520" y="480060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ke note of active listening skills being used.  Feedb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5181480"/>
            <a:ext cx="45720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3T05:07:31Z</dcterms:created>
  <dc:creator/>
  <dc:description/>
  <dc:language>en-US</dc:language>
  <cp:lastModifiedBy>Guru</cp:lastModifiedBy>
  <dcterms:modified xsi:type="dcterms:W3CDTF">2010-01-08T10:17:26Z</dcterms:modified>
  <cp:revision>0</cp:revision>
  <dc:subject/>
  <dc:title>Active Listening</dc:title>
</cp:coreProperties>
</file>